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177AF-EF9A-41E8-8D98-5051250BC7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C018C-D2F3-42E6-97FE-6C5738E09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C6443-D38B-49CD-B8BB-85539DAC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435B9-624F-4E3E-8F74-7A4E213C2A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62E844-67C6-43E7-86C9-DC34F404E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08ED13-673C-4225-A24E-9C9A5A385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5867C4-E8BB-4FDE-A80D-C382DBA13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27887C-BE1D-441D-86C2-D56CDB083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A8BB5C-D912-4AEC-B7D0-7C96C9829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4B8463-86A6-4960-9198-B5787F8EE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07BC62-E468-41A2-BEC7-E171D307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BA293-7176-4CDD-BBF5-4F8EB5918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48D290-5764-485E-85C0-663114CD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169602-7850-44D1-9676-7CDDFB59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B7EE7B-FA14-4B82-84A7-11690B81F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B92932-6C22-4B60-A372-91A4741FD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88675A-8BD3-47F7-A958-9B137C368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3C68D7-E599-4CFD-B9D6-DCF443858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696CF0-9BFF-4F09-9AC9-DE34251A6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7CE906-F452-4ADA-BBA3-DD9E34A7E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42C565-3574-40D0-9856-1FA88EBB5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2C604B-F4C6-4246-9AF2-B62F894CC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E5A63-0344-48AD-886B-57B507941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7EAB4D-DE8A-4B14-8AB9-F747F5DF7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06A983-7A9F-4325-9E67-49474F71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7A7D3E-13AF-4C17-BE74-68688267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611900-8F1C-4E27-A3A5-BEFB3A1C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A15774-0743-403A-BFA1-E3366F50F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368FF0-FFF3-4E46-9EC5-9332644CF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205BD3-C1A4-424C-A190-8B35D2E37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D7D2E-C877-42CC-9377-576D6A357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E64DF-F96B-4696-BBC9-C724D443D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15382-40D6-4F48-A8CD-54998B2E6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0A173-D20F-4F4E-A3EF-213783755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6CD7F-8A26-4554-B141-13F78DDB3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69D62-4AB2-4BD0-B7AF-5EB3D94BF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7940F-5AE1-427E-9E7A-D3C45AA27585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47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48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49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66723-80D3-43E3-8F3A-CCAB783BC3E9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93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94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95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A6FA4-D810-4FCC-B543-2890213CF908}" type="slidenum">
              <a:rPr b="0" lang="en-US" sz="1400" spc="-1" strike="noStrike">
                <a:solidFill>
                  <a:srgbClr val="046ca6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25239;&#33647;&#32467;&#26680;&#33740;.MPG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9720" y="1571400"/>
            <a:ext cx="720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幼圆"/>
              </a:rPr>
              <a:t>第</a:t>
            </a:r>
            <a:r>
              <a:rPr b="1" lang="en-US" sz="6600" spc="-1" strike="noStrike">
                <a:solidFill>
                  <a:srgbClr val="000000"/>
                </a:solidFill>
                <a:latin typeface="幼圆"/>
              </a:rPr>
              <a:t>27</a:t>
            </a:r>
            <a:r>
              <a:rPr b="1" lang="zh-CN" sz="6600" spc="-1" strike="noStrike">
                <a:solidFill>
                  <a:srgbClr val="000000"/>
                </a:solidFill>
                <a:latin typeface="幼圆"/>
              </a:rPr>
              <a:t>章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071360" y="2785680"/>
            <a:ext cx="714348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幼圆"/>
              </a:rPr>
              <a:t>分枝杆菌属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幼圆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ycobacteria</a:t>
            </a:r>
            <a:r>
              <a:rPr b="0" lang="en-US" sz="5400" spc="-1" strike="noStrike">
                <a:solidFill>
                  <a:srgbClr val="000000"/>
                </a:solidFill>
                <a:latin typeface="幼圆"/>
              </a:rPr>
              <a:t>)</a:t>
            </a:r>
            <a:endParaRPr b="1" lang="en-US" sz="5400" spc="-1" strike="noStrike">
              <a:solidFill>
                <a:srgbClr val="8ac8de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</a:rPr>
              <a:t>首都医科大学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</a:rPr>
              <a:t>郑群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665640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三、微生物学检查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87280" y="2492280"/>
            <a:ext cx="6553440" cy="38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涂片染色镜检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痰涂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抗酸染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金胺染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培养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罗氏培养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3~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基因诊断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CR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5084280"/>
            <a:ext cx="2743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检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197080" y="5229000"/>
            <a:ext cx="45784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金胺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罗丹明染色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64" name="Picture 4" descr="P97图8-3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4952880" cy="4641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P97图8-4"/>
          <p:cNvPicPr/>
          <p:nvPr/>
        </p:nvPicPr>
        <p:blipFill>
          <a:blip r:embed="rId2"/>
          <a:srcRect l="31350" t="0" r="25814" b="3333"/>
          <a:stretch/>
        </p:blipFill>
        <p:spPr>
          <a:xfrm>
            <a:off x="7164360" y="0"/>
            <a:ext cx="1981080" cy="6858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auramine rhodamine stain"/>
          <p:cNvPicPr/>
          <p:nvPr/>
        </p:nvPicPr>
        <p:blipFill>
          <a:blip r:embed="rId3"/>
          <a:srcRect l="36319" t="30238" r="0" b="0"/>
          <a:stretch/>
        </p:blipFill>
        <p:spPr>
          <a:xfrm>
            <a:off x="4952880" y="0"/>
            <a:ext cx="21765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063440"/>
            <a:ext cx="46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四、防治原则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03400" y="2606400"/>
            <a:ext cx="685152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预防：卡介苗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CG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治疗：抗结核药 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联合用药    药物副作用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耐药菌株的产生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8720" y="919080"/>
            <a:ext cx="746928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结核分枝杆菌小结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2034720"/>
            <a:ext cx="853416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长微弯分枝杆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抗酸阳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抵抗力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罗氏培养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型菌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长缓慢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侵袭力和毒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菌体类脂引起机体超敏反应引起结核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菌免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胞免疫与超敏反应共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试验可诊断结核病和测定细胞免疫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C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预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联合用药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71280" y="1079640"/>
            <a:ext cx="7272360" cy="105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麻风分枝杆菌（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M.lepra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22636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形态染色：与结核杆菌相似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培养：动物接种（小白鼠足垫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传播途径：直接接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呼吸道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临床分型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核样型：皮肤、黏膜、周围神经（预后较好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瘤型麻风：全身脏器（传染性强、预后差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leptosy-who4"/>
          <p:cNvPicPr/>
          <p:nvPr/>
        </p:nvPicPr>
        <p:blipFill>
          <a:blip r:embed="rId1"/>
          <a:stretch/>
        </p:blipFill>
        <p:spPr>
          <a:xfrm>
            <a:off x="539640" y="2492280"/>
            <a:ext cx="2843280" cy="4216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50440" y="1452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Mycobacterium lepra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2" descr="leprosy-who"/>
          <p:cNvPicPr/>
          <p:nvPr/>
        </p:nvPicPr>
        <p:blipFill>
          <a:blip r:embed="rId2"/>
          <a:stretch/>
        </p:blipFill>
        <p:spPr>
          <a:xfrm>
            <a:off x="3637080" y="2924280"/>
            <a:ext cx="493704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950400"/>
            <a:ext cx="484344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概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0560" y="2203560"/>
            <a:ext cx="504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主要特点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长微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酸染色阳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主要种类及病原菌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结核分枝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麻风分枝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非结核分枝杆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腐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机会致病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1" name="Group 4"/>
          <p:cNvGrpSpPr/>
          <p:nvPr/>
        </p:nvGrpSpPr>
        <p:grpSpPr>
          <a:xfrm>
            <a:off x="5797440" y="1273320"/>
            <a:ext cx="3167280" cy="4937040"/>
            <a:chOff x="5797440" y="1273320"/>
            <a:chExt cx="3167280" cy="4937040"/>
          </a:xfrm>
        </p:grpSpPr>
        <p:pic>
          <p:nvPicPr>
            <p:cNvPr id="142" name="Picture 8" descr="结核杆菌抗酸染色"/>
            <p:cNvPicPr/>
            <p:nvPr/>
          </p:nvPicPr>
          <p:blipFill>
            <a:blip r:embed="rId1"/>
            <a:stretch/>
          </p:blipFill>
          <p:spPr>
            <a:xfrm>
              <a:off x="5797440" y="1273320"/>
              <a:ext cx="3099960" cy="244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9" descr="18-麻风杆菌 copy"/>
            <p:cNvPicPr/>
            <p:nvPr/>
          </p:nvPicPr>
          <p:blipFill>
            <a:blip r:embed="rId2"/>
            <a:stretch/>
          </p:blipFill>
          <p:spPr>
            <a:xfrm>
              <a:off x="5797440" y="3702240"/>
              <a:ext cx="3167280" cy="2508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3640" y="1123920"/>
            <a:ext cx="8637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一、生物学性状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4160" y="2354400"/>
            <a:ext cx="748656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形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染色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酸染色阳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长微弯分枝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胞壁含大量类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培养特点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专性需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长缓慢 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h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时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罗氏（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owenstei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固体培养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pH6.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8,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菌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米黄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菜花状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~4w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46" name="Picture 15" descr="myc-tub-dk"/>
          <p:cNvPicPr/>
          <p:nvPr/>
        </p:nvPicPr>
        <p:blipFill>
          <a:blip r:embed="rId1"/>
          <a:stretch/>
        </p:blipFill>
        <p:spPr>
          <a:xfrm>
            <a:off x="5724360" y="1268280"/>
            <a:ext cx="3348360" cy="2511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3640" y="981000"/>
            <a:ext cx="8637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一、生物学性状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6560" y="2203560"/>
            <a:ext cx="821088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抵抗力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强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耐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干燥、酸碱、染料（孔雀绿、结晶紫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敏感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湿热、紫外线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5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乙醇、抗结核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变异性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型变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1"/>
              </a:rPr>
              <a:t>耐药性变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毒力变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BC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33280" y="1063440"/>
            <a:ext cx="8637840" cy="100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二、致病性与免疫性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61520" y="2111400"/>
            <a:ext cx="820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主要致病物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菌体成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类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pi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磷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刺激单核细胞增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干酪样坏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索状因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枝菌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酸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破坏线粒体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慢性肉芽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硫酸脑苷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吞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蜡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迟发型超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4600" y="1279440"/>
            <a:ext cx="772776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所致疾病及免疫特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45680" y="2373120"/>
            <a:ext cx="830412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结核病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多途径感染，最常引起肺结核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原发感染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易播散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组织损伤轻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潜伏带菌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继发感染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局限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组织损伤重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36240" y="13809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原发感染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初次感染（外源性感染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6000" y="2017440"/>
            <a:ext cx="592308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见于儿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特异性免疫尚未建立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变特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易扩散→原发综合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原发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淋巴管炎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肺门淋巴结炎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胸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见 哑铃形阴影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55" name="Picture 5" descr="18-哑铃阴影 copy"/>
          <p:cNvPicPr/>
          <p:nvPr/>
        </p:nvPicPr>
        <p:blipFill>
          <a:blip r:embed="rId1">
            <a:alphaModFix amt="49000"/>
          </a:blip>
          <a:stretch/>
        </p:blipFill>
        <p:spPr>
          <a:xfrm>
            <a:off x="6372360" y="3502080"/>
            <a:ext cx="2539800" cy="25398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8088480" cy="5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继发感染（原发后感染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69840" y="2346480"/>
            <a:ext cx="6631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再次感染（多为内源性感染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见于成年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特异性免疫已建立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变特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灶局限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增殖性病变为主：结核结节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30080" y="1208160"/>
            <a:ext cx="7296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所致疾病及免疫特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45680" y="2301480"/>
            <a:ext cx="830412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免疫特点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菌免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胞免疫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胞免疫和超敏反应共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核菌素试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uberculin te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---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T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,PP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ngzhe</cp:lastModifiedBy>
  <dcterms:modified xsi:type="dcterms:W3CDTF">2015-08-26T05:59:43Z</dcterms:modified>
  <cp:revision>2</cp:revision>
  <dc:subject/>
  <dc:title>第27章</dc:title>
</cp:coreProperties>
</file>